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png" ContentType="image/png"/>
  <Override PartName="/ppt/media/image56.jpeg" ContentType="image/jpeg"/>
  <Override PartName="/ppt/media/image55.png" ContentType="image/png"/>
  <Override PartName="/ppt/media/image52.gif" ContentType="image/gif"/>
  <Override PartName="/ppt/media/image20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3.jpeg" ContentType="image/jpeg"/>
  <Override PartName="/ppt/media/image37.jpeg" ContentType="image/jpeg"/>
  <Override PartName="/ppt/media/image15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17.jpeg" ContentType="image/jpeg"/>
  <Override PartName="/ppt/media/image22.png" ContentType="image/png"/>
  <Override PartName="/ppt/media/image21.jpeg" ContentType="image/jpeg"/>
  <Override PartName="/ppt/media/image64.png" ContentType="image/png"/>
  <Override PartName="/ppt/media/image41.jpeg" ContentType="image/jpeg"/>
  <Override PartName="/ppt/media/image66.png" ContentType="image/png"/>
  <Override PartName="/ppt/media/image27.wmf" ContentType="image/x-wmf"/>
  <Override PartName="/ppt/media/image65.jpeg" ContentType="image/jpeg"/>
  <Override PartName="/ppt/media/image8.jpeg" ContentType="image/jpeg"/>
  <Override PartName="/ppt/media/image39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61.wmf" ContentType="image/x-wmf"/>
  <Override PartName="/ppt/media/image67.jpeg" ContentType="image/jpeg"/>
  <Override PartName="/ppt/media/image26.wmf" ContentType="image/x-wmf"/>
  <Override PartName="/ppt/media/image60.png" ContentType="image/png"/>
  <Override PartName="/ppt/media/image29.png" ContentType="image/png"/>
  <Override PartName="/ppt/media/image63.jpeg" ContentType="image/jpeg"/>
  <Override PartName="/ppt/media/image6.jpeg" ContentType="image/jpeg"/>
  <Override PartName="/ppt/media/image68.jpeg" ContentType="image/jpeg"/>
  <Override PartName="/ppt/media/image24.png" ContentType="image/png"/>
  <Override PartName="/ppt/media/image4.wmf" ContentType="image/x-wmf"/>
  <Override PartName="/ppt/media/image18.wmf" ContentType="image/x-wmf"/>
  <Override PartName="/ppt/media/image36.jpeg" ContentType="image/jpeg"/>
  <Override PartName="/ppt/media/image13.png" ContentType="image/png"/>
  <Override PartName="/ppt/media/image54.jpeg" ContentType="image/jpeg"/>
  <Override PartName="/ppt/media/image30.gif" ContentType="image/gif"/>
  <Override PartName="/ppt/media/image10.jpeg" ContentType="image/jpeg"/>
  <Override PartName="/ppt/media/image12.png" ContentType="image/png"/>
  <Override PartName="/ppt/media/image31.jpeg" ContentType="image/jpeg"/>
  <Override PartName="/ppt/media/image32.jpeg" ContentType="image/jpeg"/>
  <Override PartName="/ppt/media/image48.wmf" ContentType="image/x-wmf"/>
  <Override PartName="/ppt/media/image33.jpeg" ContentType="image/jpeg"/>
  <Override PartName="/ppt/media/image34.jpeg" ContentType="image/jpeg"/>
  <Override PartName="/ppt/media/image35.jpeg" ContentType="image/jpeg"/>
  <Override PartName="/ppt/media/image1.wmf" ContentType="image/x-wmf"/>
  <Override PartName="/ppt/media/image40.jpeg" ContentType="image/jpeg"/>
  <Override PartName="/ppt/media/image42.wmf" ContentType="image/x-wmf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6059"/>
            </a:gs>
            <a:gs pos="50000">
              <a:srgbClr val="4b2523"/>
            </a:gs>
            <a:gs pos="100000">
              <a:srgbClr val="c1605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60" y="0"/>
            <a:ext cx="9158760" cy="6868440"/>
            <a:chOff x="-360" y="0"/>
            <a:chExt cx="9158760" cy="6868440"/>
          </a:xfrm>
        </p:grpSpPr>
        <p:sp>
          <p:nvSpPr>
            <p:cNvPr id="1" name="Rectangle 2"/>
            <p:cNvSpPr/>
            <p:nvPr/>
          </p:nvSpPr>
          <p:spPr>
            <a:xfrm rot="10800000">
              <a:off x="1079640" y="0"/>
              <a:ext cx="807408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 rot="10800000">
              <a:off x="1084320" y="6668640"/>
              <a:ext cx="807408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 rot="10800000">
              <a:off x="6120" y="12240"/>
              <a:ext cx="1203480" cy="68562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25560" y="558720"/>
              <a:ext cx="1291320" cy="6258240"/>
              <a:chOff x="25560" y="558720"/>
              <a:chExt cx="1291320" cy="625824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25560" y="4595760"/>
                <a:ext cx="759240" cy="2221200"/>
                <a:chOff x="25560" y="4595760"/>
                <a:chExt cx="759240" cy="222120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115560" y="6634440"/>
                  <a:ext cx="416160" cy="182520"/>
                  <a:chOff x="115560" y="6634440"/>
                  <a:chExt cx="416160" cy="18252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115560" y="6634440"/>
                    <a:ext cx="416160" cy="182520"/>
                    <a:chOff x="115560" y="6634440"/>
                    <a:chExt cx="416160" cy="182520"/>
                  </a:xfrm>
                </p:grpSpPr>
                <p:sp>
                  <p:nvSpPr>
                    <p:cNvPr id="8" name="AutoShape 9"/>
                    <p:cNvSpPr/>
                    <p:nvPr/>
                  </p:nvSpPr>
                  <p:spPr>
                    <a:xfrm rot="5400000">
                      <a:off x="255960" y="6541200"/>
                      <a:ext cx="135000" cy="416160"/>
                    </a:xfrm>
                    <a:custGeom>
                      <a:avLst/>
                      <a:gdLst>
                        <a:gd name="textAreaLeft" fmla="*/ 0 w 135000"/>
                        <a:gd name="textAreaRight" fmla="*/ 135000 w 13500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AutoShape 10"/>
                    <p:cNvSpPr/>
                    <p:nvPr/>
                  </p:nvSpPr>
                  <p:spPr>
                    <a:xfrm rot="5400000">
                      <a:off x="308880" y="6513480"/>
                      <a:ext cx="93600" cy="335520"/>
                    </a:xfrm>
                    <a:custGeom>
                      <a:avLst/>
                      <a:gdLst>
                        <a:gd name="textAreaLeft" fmla="*/ 0 w 93600"/>
                        <a:gd name="textAreaRight" fmla="*/ 93960 w 93600"/>
                        <a:gd name="textAreaTop" fmla="*/ 0 h 335520"/>
                        <a:gd name="textAreaBottom" fmla="*/ 335880 h 3355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5400000">
                    <a:off x="312120" y="6705000"/>
                    <a:ext cx="19080" cy="396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AutoShape 12"/>
                  <p:cNvSpPr/>
                  <p:nvPr/>
                </p:nvSpPr>
                <p:spPr>
                  <a:xfrm rot="5400000">
                    <a:off x="401400" y="6711120"/>
                    <a:ext cx="28440" cy="853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85320"/>
                      <a:gd name="textAreaBottom" fmla="*/ 85680 h 8532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AutoShape 13"/>
                  <p:cNvSpPr/>
                  <p:nvPr/>
                </p:nvSpPr>
                <p:spPr>
                  <a:xfrm rot="5400000">
                    <a:off x="270720" y="6737040"/>
                    <a:ext cx="42840" cy="5688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AutoShape 14"/>
                  <p:cNvSpPr/>
                  <p:nvPr/>
                </p:nvSpPr>
                <p:spPr>
                  <a:xfrm rot="5400000">
                    <a:off x="204840" y="6680520"/>
                    <a:ext cx="15840" cy="9180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AutoShape 15"/>
                  <p:cNvSpPr/>
                  <p:nvPr/>
                </p:nvSpPr>
                <p:spPr>
                  <a:xfrm rot="5400000">
                    <a:off x="274680" y="6663240"/>
                    <a:ext cx="42840" cy="39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AutoShape 16"/>
                  <p:cNvSpPr/>
                  <p:nvPr/>
                </p:nvSpPr>
                <p:spPr>
                  <a:xfrm rot="5400000">
                    <a:off x="384480" y="6665760"/>
                    <a:ext cx="25560" cy="6156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90680" y="6350040"/>
                  <a:ext cx="2941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560" y="6350040"/>
                  <a:ext cx="2941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2800" y="6044760"/>
                  <a:ext cx="2941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8760" y="5663520"/>
                  <a:ext cx="2941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560" y="5739840"/>
                  <a:ext cx="2941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86480" y="5358240"/>
                  <a:ext cx="29448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5560" y="4977000"/>
                  <a:ext cx="2941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5560" y="4595760"/>
                  <a:ext cx="29412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491040" y="558720"/>
                <a:ext cx="825840" cy="4706640"/>
                <a:chOff x="491040" y="558720"/>
                <a:chExt cx="825840" cy="470664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8920" y="49752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42600" y="4670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18920" y="4061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91040" y="38329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0480" y="36810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94880" y="3376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91040" y="32997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67000" y="28429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946800" y="3071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946800" y="26906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8920" y="2462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67000" y="4366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022760" y="22338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946800" y="17006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567000" y="13201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946800" y="11678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4880" y="9396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946800" y="5587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42600" y="7110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AutoShape 45"/>
            <p:cNvSpPr/>
            <p:nvPr/>
          </p:nvSpPr>
          <p:spPr>
            <a:xfrm rot="10800000">
              <a:off x="21960" y="21600"/>
              <a:ext cx="1189080" cy="193932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AutoShape 46"/>
            <p:cNvSpPr/>
            <p:nvPr/>
          </p:nvSpPr>
          <p:spPr>
            <a:xfrm rot="10800000">
              <a:off x="5040" y="12600"/>
              <a:ext cx="1218960" cy="199944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47"/>
            <p:cNvSpPr/>
            <p:nvPr/>
          </p:nvSpPr>
          <p:spPr>
            <a:xfrm rot="10800000">
              <a:off x="3240" y="122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8513a"/>
                </a:gs>
                <a:gs pos="100000">
                  <a:srgbClr val="79af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AutoShape 48"/>
            <p:cNvSpPr/>
            <p:nvPr/>
          </p:nvSpPr>
          <p:spPr>
            <a:xfrm rot="10800000">
              <a:off x="169560" y="114732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49"/>
            <p:cNvSpPr/>
            <p:nvPr/>
          </p:nvSpPr>
          <p:spPr>
            <a:xfrm rot="10800000">
              <a:off x="5040" y="1395000"/>
              <a:ext cx="914400" cy="5046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6480"/>
                <a:gd name="textAreaBottom" fmla="*/ 5046840 h 50464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50"/>
            <p:cNvSpPr/>
            <p:nvPr/>
          </p:nvSpPr>
          <p:spPr>
            <a:xfrm rot="10800000">
              <a:off x="0" y="353268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51"/>
            <p:cNvSpPr/>
            <p:nvPr/>
          </p:nvSpPr>
          <p:spPr>
            <a:xfrm rot="10800000">
              <a:off x="640080" y="3516480"/>
              <a:ext cx="576000" cy="33519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52"/>
            <p:cNvSpPr/>
            <p:nvPr/>
          </p:nvSpPr>
          <p:spPr>
            <a:xfrm rot="10800000">
              <a:off x="915840" y="3515400"/>
              <a:ext cx="299880" cy="33516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351600"/>
                <a:gd name="textAreaBottom" fmla="*/ 3351960 h 33516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 rot="10800000">
              <a:off x="1207800" y="10440"/>
              <a:ext cx="88920" cy="68562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54"/>
            <p:cNvSpPr/>
            <p:nvPr/>
          </p:nvSpPr>
          <p:spPr>
            <a:xfrm rot="10800000">
              <a:off x="39960" y="21240"/>
              <a:ext cx="1164960" cy="61884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16200000">
              <a:off x="-2018160" y="3325680"/>
              <a:ext cx="6856200" cy="225360"/>
            </a:xfrm>
            <a:custGeom>
              <a:avLst/>
              <a:gdLst>
                <a:gd name="textAreaLeft" fmla="*/ 668160 w 6856200"/>
                <a:gd name="textAreaRight" fmla="*/ 6188040 w 68562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gif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png"/><Relationship Id="rId5" Type="http://schemas.openxmlformats.org/officeDocument/2006/relationships/image" Target="../media/image59.jpe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image" Target="../media/image1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440000" y="179280"/>
            <a:ext cx="611964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WordArt 2"/>
          <p:cNvSpPr txBox="1"/>
          <p:nvPr/>
        </p:nvSpPr>
        <p:spPr>
          <a:xfrm>
            <a:off x="2050920" y="325440"/>
            <a:ext cx="315432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ИЛЬНОЕ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619280" y="981000"/>
            <a:ext cx="40989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ТАНИЕ - ЗАЛОГ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2195640" y="1628640"/>
            <a:ext cx="27367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ДОРОВЬ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0" y="-243000"/>
            <a:ext cx="9158040" cy="7341840"/>
            <a:chOff x="0" y="-243000"/>
            <a:chExt cx="9158040" cy="7341840"/>
          </a:xfrm>
        </p:grpSpPr>
        <p:sp>
          <p:nvSpPr>
            <p:cNvPr id="96" name="Rectangle 6"/>
            <p:cNvSpPr/>
            <p:nvPr/>
          </p:nvSpPr>
          <p:spPr>
            <a:xfrm>
              <a:off x="0" y="6857640"/>
              <a:ext cx="8077320" cy="2412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0" y="-243000"/>
              <a:ext cx="8077320" cy="214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>
              <a:off x="7952040" y="-243000"/>
              <a:ext cx="1202760" cy="73292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Group 9"/>
            <p:cNvGrpSpPr/>
            <p:nvPr/>
          </p:nvGrpSpPr>
          <p:grpSpPr>
            <a:xfrm>
              <a:off x="7847280" y="-185760"/>
              <a:ext cx="1292760" cy="6684480"/>
              <a:chOff x="7847280" y="-185760"/>
              <a:chExt cx="1292760" cy="6684480"/>
            </a:xfrm>
          </p:grpSpPr>
          <p:grpSp>
            <p:nvGrpSpPr>
              <p:cNvPr id="100" name="Group 10"/>
              <p:cNvGrpSpPr/>
              <p:nvPr/>
            </p:nvGrpSpPr>
            <p:grpSpPr>
              <a:xfrm>
                <a:off x="8380080" y="-185760"/>
                <a:ext cx="759960" cy="2368080"/>
                <a:chOff x="8380080" y="-185760"/>
                <a:chExt cx="759960" cy="2368080"/>
              </a:xfrm>
            </p:grpSpPr>
            <p:grpSp>
              <p:nvGrpSpPr>
                <p:cNvPr id="101" name="Group 11"/>
                <p:cNvGrpSpPr/>
                <p:nvPr/>
              </p:nvGrpSpPr>
              <p:grpSpPr>
                <a:xfrm>
                  <a:off x="8619120" y="-185760"/>
                  <a:ext cx="444960" cy="182520"/>
                  <a:chOff x="8619120" y="-185760"/>
                  <a:chExt cx="444960" cy="182520"/>
                </a:xfrm>
              </p:grpSpPr>
              <p:grpSp>
                <p:nvGrpSpPr>
                  <p:cNvPr id="102" name="Group 12"/>
                  <p:cNvGrpSpPr/>
                  <p:nvPr/>
                </p:nvGrpSpPr>
                <p:grpSpPr>
                  <a:xfrm>
                    <a:off x="8619120" y="-185760"/>
                    <a:ext cx="444960" cy="182520"/>
                    <a:chOff x="8619120" y="-185760"/>
                    <a:chExt cx="444960" cy="182520"/>
                  </a:xfrm>
                </p:grpSpPr>
                <p:sp>
                  <p:nvSpPr>
                    <p:cNvPr id="103" name="AutoShape 13"/>
                    <p:cNvSpPr/>
                    <p:nvPr/>
                  </p:nvSpPr>
                  <p:spPr>
                    <a:xfrm rot="16200000">
                      <a:off x="8775000" y="-341280"/>
                      <a:ext cx="133200" cy="444960"/>
                    </a:xfrm>
                    <a:custGeom>
                      <a:avLst/>
                      <a:gdLst>
                        <a:gd name="textAreaLeft" fmla="*/ 0 w 133200"/>
                        <a:gd name="textAreaRight" fmla="*/ 133560 w 133200"/>
                        <a:gd name="textAreaTop" fmla="*/ 0 h 444960"/>
                        <a:gd name="textAreaBottom" fmla="*/ 445320 h 4449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AutoShape 14"/>
                    <p:cNvSpPr/>
                    <p:nvPr/>
                  </p:nvSpPr>
                  <p:spPr>
                    <a:xfrm rot="16200000">
                      <a:off x="8759880" y="-228960"/>
                      <a:ext cx="92160" cy="359640"/>
                    </a:xfrm>
                    <a:custGeom>
                      <a:avLst/>
                      <a:gdLst>
                        <a:gd name="textAreaLeft" fmla="*/ 0 w 92160"/>
                        <a:gd name="textAreaRight" fmla="*/ 92520 w 92160"/>
                        <a:gd name="textAreaTop" fmla="*/ 0 h 359640"/>
                        <a:gd name="textAreaBottom" fmla="*/ 360000 h 35964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" name="Oval 15"/>
                  <p:cNvSpPr/>
                  <p:nvPr/>
                </p:nvSpPr>
                <p:spPr>
                  <a:xfrm rot="16200000">
                    <a:off x="8821440" y="-111240"/>
                    <a:ext cx="16920" cy="4248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16"/>
                  <p:cNvSpPr/>
                  <p:nvPr/>
                </p:nvSpPr>
                <p:spPr>
                  <a:xfrm rot="16200000">
                    <a:off x="8721360" y="-162720"/>
                    <a:ext cx="28080" cy="9000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90000"/>
                      <a:gd name="textAreaBottom" fmla="*/ 90360 h 90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AutoShape 17"/>
                  <p:cNvSpPr/>
                  <p:nvPr/>
                </p:nvSpPr>
                <p:spPr>
                  <a:xfrm rot="16200000">
                    <a:off x="8845560" y="-162000"/>
                    <a:ext cx="42480" cy="58320"/>
                  </a:xfrm>
                  <a:custGeom>
                    <a:avLst/>
                    <a:gdLst>
                      <a:gd name="textAreaLeft" fmla="*/ 0 w 42480"/>
                      <a:gd name="textAreaRight" fmla="*/ 42480 w 42480"/>
                      <a:gd name="textAreaTop" fmla="*/ 0 h 58320"/>
                      <a:gd name="textAreaBottom" fmla="*/ 58680 h 5832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18"/>
                  <p:cNvSpPr/>
                  <p:nvPr/>
                </p:nvSpPr>
                <p:spPr>
                  <a:xfrm rot="16200000">
                    <a:off x="8936640" y="-140760"/>
                    <a:ext cx="15480" cy="9648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19"/>
                  <p:cNvSpPr/>
                  <p:nvPr/>
                </p:nvSpPr>
                <p:spPr>
                  <a:xfrm rot="16200000">
                    <a:off x="8838360" y="-70560"/>
                    <a:ext cx="42480" cy="43920"/>
                  </a:xfrm>
                  <a:custGeom>
                    <a:avLst/>
                    <a:gdLst>
                      <a:gd name="textAreaLeft" fmla="*/ 0 w 42480"/>
                      <a:gd name="textAreaRight" fmla="*/ 42480 w 424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0"/>
                  <p:cNvSpPr/>
                  <p:nvPr/>
                </p:nvSpPr>
                <p:spPr>
                  <a:xfrm rot="16200000">
                    <a:off x="8742600" y="-95400"/>
                    <a:ext cx="24840" cy="66240"/>
                  </a:xfrm>
                  <a:custGeom>
                    <a:avLst/>
                    <a:gdLst>
                      <a:gd name="textAreaLeft" fmla="*/ 0 w 24840"/>
                      <a:gd name="textAreaRight" fmla="*/ 25200 w 2484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1" name="Picture 2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1080"/>
                  <a:ext cx="29484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108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326160"/>
                  <a:ext cx="29484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73440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65160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05948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465560"/>
                  <a:ext cx="294480" cy="30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87308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9" name="Group 29"/>
              <p:cNvGrpSpPr/>
              <p:nvPr/>
            </p:nvGrpSpPr>
            <p:grpSpPr>
              <a:xfrm>
                <a:off x="7847280" y="1467000"/>
                <a:ext cx="826200" cy="5031720"/>
                <a:chOff x="7847280" y="1467000"/>
                <a:chExt cx="826200" cy="5031720"/>
              </a:xfrm>
            </p:grpSpPr>
            <p:pic>
              <p:nvPicPr>
                <p:cNvPr id="120" name="Picture 3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467000"/>
                  <a:ext cx="294480" cy="30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793520"/>
                  <a:ext cx="2941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44440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68848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4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50480"/>
                  <a:ext cx="2941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77360"/>
                  <a:ext cx="2941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6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5836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7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46880"/>
                  <a:ext cx="2941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8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244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9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90888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0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5332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4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118960"/>
                  <a:ext cx="2941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4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97760"/>
                  <a:ext cx="2941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96728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4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375520"/>
                  <a:ext cx="2941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5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537160"/>
                  <a:ext cx="294480" cy="30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781600"/>
                  <a:ext cx="2941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7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189480"/>
                  <a:ext cx="29448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6026040"/>
                  <a:ext cx="294120" cy="309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9" name="AutoShape 49"/>
            <p:cNvSpPr/>
            <p:nvPr/>
          </p:nvSpPr>
          <p:spPr>
            <a:xfrm>
              <a:off x="7952040" y="5002200"/>
              <a:ext cx="1190160" cy="2072880"/>
            </a:xfrm>
            <a:custGeom>
              <a:avLst/>
              <a:gdLst>
                <a:gd name="textAreaLeft" fmla="*/ 0 w 1190160"/>
                <a:gd name="textAreaRight" fmla="*/ 1190520 w 1190160"/>
                <a:gd name="textAreaTop" fmla="*/ 0 h 2072880"/>
                <a:gd name="textAreaBottom" fmla="*/ 2073240 h 207288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50"/>
            <p:cNvSpPr/>
            <p:nvPr/>
          </p:nvSpPr>
          <p:spPr>
            <a:xfrm>
              <a:off x="7937640" y="4948560"/>
              <a:ext cx="1218960" cy="21312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131200"/>
                <a:gd name="textAreaBottom" fmla="*/ 2131560 h 213120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51"/>
            <p:cNvSpPr/>
            <p:nvPr/>
          </p:nvSpPr>
          <p:spPr>
            <a:xfrm>
              <a:off x="7926480" y="2767680"/>
              <a:ext cx="1231560" cy="4313520"/>
            </a:xfrm>
            <a:custGeom>
              <a:avLst/>
              <a:gdLst>
                <a:gd name="textAreaLeft" fmla="*/ 0 w 1231560"/>
                <a:gd name="textAreaRight" fmla="*/ 1231920 w 1231560"/>
                <a:gd name="textAreaTop" fmla="*/ 0 h 4313520"/>
                <a:gd name="textAreaBottom" fmla="*/ 4313880 h 431352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8513a"/>
                </a:gs>
                <a:gs pos="100000">
                  <a:srgbClr val="79af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2"/>
            <p:cNvSpPr/>
            <p:nvPr/>
          </p:nvSpPr>
          <p:spPr>
            <a:xfrm>
              <a:off x="8008920" y="3537360"/>
              <a:ext cx="979200" cy="233460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2334600"/>
                <a:gd name="textAreaBottom" fmla="*/ 2334960 h 23346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53"/>
            <p:cNvSpPr/>
            <p:nvPr/>
          </p:nvSpPr>
          <p:spPr>
            <a:xfrm>
              <a:off x="8242560" y="212400"/>
              <a:ext cx="914040" cy="539460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5394600"/>
                <a:gd name="textAreaBottom" fmla="*/ 5394960 h 53946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54"/>
            <p:cNvSpPr/>
            <p:nvPr/>
          </p:nvSpPr>
          <p:spPr>
            <a:xfrm>
              <a:off x="8248680" y="36000"/>
              <a:ext cx="909360" cy="328212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3282120"/>
                <a:gd name="textAreaBottom" fmla="*/ 3282480 h 32821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55"/>
            <p:cNvSpPr/>
            <p:nvPr/>
          </p:nvSpPr>
          <p:spPr>
            <a:xfrm>
              <a:off x="7942320" y="-243000"/>
              <a:ext cx="576000" cy="358200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3582000"/>
                <a:gd name="textAreaBottom" fmla="*/ 3582360 h 35820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56"/>
            <p:cNvSpPr/>
            <p:nvPr/>
          </p:nvSpPr>
          <p:spPr>
            <a:xfrm>
              <a:off x="7942320" y="-241200"/>
              <a:ext cx="299880" cy="358344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583440"/>
                <a:gd name="textAreaBottom" fmla="*/ 3583800 h 35834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57"/>
            <p:cNvSpPr/>
            <p:nvPr/>
          </p:nvSpPr>
          <p:spPr>
            <a:xfrm>
              <a:off x="7864560" y="-241200"/>
              <a:ext cx="88560" cy="73292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58"/>
            <p:cNvSpPr/>
            <p:nvPr/>
          </p:nvSpPr>
          <p:spPr>
            <a:xfrm>
              <a:off x="7956720" y="6413400"/>
              <a:ext cx="1164960" cy="66168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661680"/>
                <a:gd name="textAreaBottom" fmla="*/ 661680 h 6616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59"/>
            <p:cNvSpPr/>
            <p:nvPr/>
          </p:nvSpPr>
          <p:spPr>
            <a:xfrm rot="5400000">
              <a:off x="4088520" y="3308760"/>
              <a:ext cx="7329240" cy="225360"/>
            </a:xfrm>
            <a:custGeom>
              <a:avLst/>
              <a:gdLst>
                <a:gd name="textAreaLeft" fmla="*/ 714240 w 7329240"/>
                <a:gd name="textAreaRight" fmla="*/ 6615000 w 73292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Text Box 61"/>
          <p:cNvSpPr/>
          <p:nvPr/>
        </p:nvSpPr>
        <p:spPr>
          <a:xfrm>
            <a:off x="1691280" y="6016680"/>
            <a:ext cx="509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р: учитель биологии МОУ Платоновской СОШ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деева Ирина Александ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1692360" y="2454120"/>
            <a:ext cx="25192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 мужчины, весяще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70 кг, приближа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 1700 кка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995640" y="549360"/>
            <a:ext cx="23036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ЛИЧ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659640" y="2382840"/>
            <a:ext cx="25192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 женщины, вес котор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коло 60 кг, близ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 1400 кка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124000" y="5516640"/>
            <a:ext cx="655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 детей, при расчете на 1 кг веса тела, уровень основного обмена гораздо выш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7327800" y="404640"/>
            <a:ext cx="1420920" cy="194472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2050920" y="404640"/>
            <a:ext cx="1594080" cy="208764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2951280" cy="2011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1"/>
          <p:cNvSpPr txBox="1"/>
          <p:nvPr/>
        </p:nvSpPr>
        <p:spPr>
          <a:xfrm>
            <a:off x="1835280" y="549360"/>
            <a:ext cx="680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рамида здорового питани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-2509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2857680" y="1214280"/>
          <a:ext cx="5059080" cy="52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1214280"/>
                    <a:ext cx="505908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0" y="260280"/>
            <a:ext cx="187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Д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808360" cy="20970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3097080" cy="21556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10" name="Text Box 4"/>
          <p:cNvSpPr/>
          <p:nvPr/>
        </p:nvSpPr>
        <p:spPr>
          <a:xfrm>
            <a:off x="2556000" y="981000"/>
            <a:ext cx="6119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ым известным сладким  продуктом является саха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050920" y="4365720"/>
            <a:ext cx="16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 как полезен, так и вреден для организма человек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875640" y="4365720"/>
            <a:ext cx="165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быток сахара может привести к сахарному диабет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3"/>
          <a:stretch/>
        </p:blipFill>
        <p:spPr>
          <a:xfrm>
            <a:off x="4788000" y="4365720"/>
            <a:ext cx="1119240" cy="1655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0" y="26028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357120"/>
                <a:tab algn="l" pos="1271520"/>
                <a:tab algn="l" pos="2185920"/>
                <a:tab algn="l" pos="3100320"/>
                <a:tab algn="l" pos="4014720"/>
                <a:tab algn="l" pos="4929120"/>
                <a:tab algn="l" pos="5843520"/>
                <a:tab algn="l" pos="6757920"/>
                <a:tab algn="l" pos="7672320"/>
                <a:tab algn="l" pos="8586720"/>
                <a:tab algn="l" pos="9501120"/>
                <a:tab algn="l" pos="1041552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2232000" cy="18417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6907320" y="3573360"/>
            <a:ext cx="1912680" cy="191304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17" name="Picture 4" descr=""/>
          <p:cNvPicPr/>
          <p:nvPr/>
        </p:nvPicPr>
        <p:blipFill>
          <a:blip r:embed="rId3"/>
          <a:stretch/>
        </p:blipFill>
        <p:spPr>
          <a:xfrm>
            <a:off x="4211640" y="1270080"/>
            <a:ext cx="2448000" cy="18730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18" name="Text Box 5"/>
          <p:cNvSpPr/>
          <p:nvPr/>
        </p:nvSpPr>
        <p:spPr>
          <a:xfrm>
            <a:off x="1692360" y="1216080"/>
            <a:ext cx="2448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ьзуются организмом в энергетических и в пластических целя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804000" y="1270080"/>
            <a:ext cx="2266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егулируют все стороны жизнедеятельности организм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356000" y="4262400"/>
            <a:ext cx="30243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SzPct val="102950"/>
              <a:buBlip>
                <a:blip r:embed="rId4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реха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5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мечка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6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воща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7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б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8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тительных масла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284720" y="3645000"/>
            <a:ext cx="223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ТСЯ 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195640" y="260280"/>
            <a:ext cx="129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1439640" cy="129384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3132000" y="1268280"/>
            <a:ext cx="1584360" cy="11890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25" name="Text Box 4"/>
          <p:cNvSpPr/>
          <p:nvPr/>
        </p:nvSpPr>
        <p:spPr>
          <a:xfrm>
            <a:off x="2305080" y="3357720"/>
            <a:ext cx="655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ИМИ СВЯЗАНЫ ОСНОВНЫЕ ПРОЯВЛЕНИЯ ЖИЗНИ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1513080" cy="12999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27" name="Text Box 6"/>
          <p:cNvSpPr/>
          <p:nvPr/>
        </p:nvSpPr>
        <p:spPr>
          <a:xfrm>
            <a:off x="2952720" y="5302080"/>
            <a:ext cx="1871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мен вещест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944720" y="4005360"/>
            <a:ext cx="2374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сшая форма движения материи - мыш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032360" y="5923080"/>
            <a:ext cx="3168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дражительность нерв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6048360" y="5275440"/>
            <a:ext cx="2303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кращение мышц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7056360" y="40053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собность к росту и размножени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>
            <a:off x="3417480" y="4005360"/>
            <a:ext cx="1623960" cy="14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5761080" y="4006800"/>
            <a:ext cx="1619280" cy="142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 flipH="1">
            <a:off x="3886200" y="4078440"/>
            <a:ext cx="1300320" cy="1223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 flipH="1">
            <a:off x="5362560" y="4078440"/>
            <a:ext cx="39600" cy="18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5616720" y="4078440"/>
            <a:ext cx="1152360" cy="1223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6012000" y="692280"/>
            <a:ext cx="29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buSzPct val="102950"/>
              <a:buBlip>
                <a:blip r:embed="rId4"/>
              </a:buBlip>
              <a:tabLst>
                <a:tab algn="l" pos="268200"/>
                <a:tab algn="l" pos="1182600"/>
                <a:tab algn="l" pos="2097000"/>
                <a:tab algn="l" pos="3011400"/>
                <a:tab algn="l" pos="3925800"/>
                <a:tab algn="l" pos="4840200"/>
                <a:tab algn="l" pos="5754600"/>
                <a:tab algn="l" pos="6669000"/>
                <a:tab algn="l" pos="7583400"/>
                <a:tab algn="l" pos="8497800"/>
                <a:tab algn="l" pos="9412200"/>
                <a:tab algn="l" pos="103266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б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50000"/>
              </a:lnSpc>
              <a:buSzPct val="102950"/>
              <a:buBlip>
                <a:blip r:embed="rId5"/>
              </a:buBlip>
              <a:tabLst>
                <a:tab algn="l" pos="268200"/>
                <a:tab algn="l" pos="1182600"/>
                <a:tab algn="l" pos="2097000"/>
                <a:tab algn="l" pos="3011400"/>
                <a:tab algn="l" pos="3925800"/>
                <a:tab algn="l" pos="4840200"/>
                <a:tab algn="l" pos="5754600"/>
                <a:tab algn="l" pos="6669000"/>
                <a:tab algn="l" pos="7583400"/>
                <a:tab algn="l" pos="8497800"/>
                <a:tab algn="l" pos="9412200"/>
                <a:tab algn="l" pos="103266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йца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50000"/>
              </a:lnSpc>
              <a:buSzPct val="102950"/>
              <a:buBlip>
                <a:blip r:embed="rId6"/>
              </a:buBlip>
              <a:tabLst>
                <a:tab algn="l" pos="268200"/>
                <a:tab algn="l" pos="1182600"/>
                <a:tab algn="l" pos="2097000"/>
                <a:tab algn="l" pos="3011400"/>
                <a:tab algn="l" pos="3925800"/>
                <a:tab algn="l" pos="4840200"/>
                <a:tab algn="l" pos="5754600"/>
                <a:tab algn="l" pos="6669000"/>
                <a:tab algn="l" pos="7583400"/>
                <a:tab algn="l" pos="8497800"/>
                <a:tab algn="l" pos="9412200"/>
                <a:tab algn="l" pos="103266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тном масл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50000"/>
              </a:lnSpc>
              <a:buSzPct val="102950"/>
              <a:buBlip>
                <a:blip r:embed="rId7"/>
              </a:buBlip>
              <a:tabLst>
                <a:tab algn="l" pos="268200"/>
                <a:tab algn="l" pos="1182600"/>
                <a:tab algn="l" pos="2097000"/>
                <a:tab algn="l" pos="3011400"/>
                <a:tab algn="l" pos="3925800"/>
                <a:tab algn="l" pos="4840200"/>
                <a:tab algn="l" pos="5754600"/>
                <a:tab algn="l" pos="6669000"/>
                <a:tab algn="l" pos="7583400"/>
                <a:tab algn="l" pos="8497800"/>
                <a:tab algn="l" pos="9412200"/>
                <a:tab algn="l" pos="103266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машней птиц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50000"/>
              </a:lnSpc>
              <a:buSzPct val="102950"/>
              <a:buBlip>
                <a:blip r:embed="rId8"/>
              </a:buBlip>
              <a:tabLst>
                <a:tab algn="l" pos="268200"/>
                <a:tab algn="l" pos="1182600"/>
                <a:tab algn="l" pos="2097000"/>
                <a:tab algn="l" pos="3011400"/>
                <a:tab algn="l" pos="3925800"/>
                <a:tab algn="l" pos="4840200"/>
                <a:tab algn="l" pos="5754600"/>
                <a:tab algn="l" pos="6669000"/>
                <a:tab algn="l" pos="7583400"/>
                <a:tab algn="l" pos="8497800"/>
                <a:tab algn="l" pos="9412200"/>
                <a:tab algn="l" pos="103266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олочных продукта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50000"/>
              </a:lnSpc>
              <a:buSzPct val="102950"/>
              <a:buBlip>
                <a:blip r:embed="rId9"/>
              </a:buBlip>
              <a:tabLst>
                <a:tab algn="l" pos="268200"/>
                <a:tab algn="l" pos="1182600"/>
                <a:tab algn="l" pos="2097000"/>
                <a:tab algn="l" pos="3011400"/>
                <a:tab algn="l" pos="3925800"/>
                <a:tab algn="l" pos="4840200"/>
                <a:tab algn="l" pos="5754600"/>
                <a:tab algn="l" pos="6669000"/>
                <a:tab algn="l" pos="7583400"/>
                <a:tab algn="l" pos="8497800"/>
                <a:tab algn="l" pos="9412200"/>
                <a:tab algn="l" pos="103266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рех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6227640" y="260280"/>
            <a:ext cx="223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ТСЯ 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763640" y="404640"/>
            <a:ext cx="259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ВОЩИ И ФРУК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547640" y="2708280"/>
            <a:ext cx="759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ОБРЕТАЯ ОВОЩИ И ФРУКТЫ НЕОБХОДИМО ПОМНИ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4427640" y="3429000"/>
            <a:ext cx="2001600" cy="287964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6804000" y="549360"/>
            <a:ext cx="1960560" cy="17794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43" name="Text Box 5"/>
          <p:cNvSpPr/>
          <p:nvPr/>
        </p:nvSpPr>
        <p:spPr>
          <a:xfrm>
            <a:off x="1835280" y="1052640"/>
            <a:ext cx="4465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SzPct val="102950"/>
              <a:buBlip>
                <a:blip r:embed="rId3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гаты витаминам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4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ивают нормальное пищеваре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5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аствуют в обмене вещест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763640" y="3664080"/>
            <a:ext cx="2305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татель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щества зрел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лодов лучш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сваиваю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шим организм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588000" y="3645000"/>
            <a:ext cx="2087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свеж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иде о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азд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езнее, ч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еработанны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3708360" y="333360"/>
            <a:ext cx="302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ЖНЫЕ УГЛЕВО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643280" y="4678200"/>
            <a:ext cx="280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SzPct val="102950"/>
              <a:buBlip>
                <a:blip r:embed="rId1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тофел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2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карон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3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ле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4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уп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268360" y="3933720"/>
            <a:ext cx="60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 БОГАТЫЕ  УГЛЕВОДАМИ  ПРОДУК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5"/>
          <a:stretch/>
        </p:blipFill>
        <p:spPr>
          <a:xfrm>
            <a:off x="4067280" y="1125360"/>
            <a:ext cx="2089080" cy="15670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50" name="Picture 5" descr=""/>
          <p:cNvPicPr/>
          <p:nvPr/>
        </p:nvPicPr>
        <p:blipFill>
          <a:blip r:embed="rId6"/>
          <a:stretch/>
        </p:blipFill>
        <p:spPr>
          <a:xfrm>
            <a:off x="1835280" y="4653000"/>
            <a:ext cx="2520720" cy="16272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51" name="Text Box 6"/>
          <p:cNvSpPr/>
          <p:nvPr/>
        </p:nvSpPr>
        <p:spPr>
          <a:xfrm>
            <a:off x="1619280" y="907920"/>
            <a:ext cx="172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тся главным источником энер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187280" y="2924280"/>
            <a:ext cx="828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ыми углеводами пищи являются сложные сахара - полисахарид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хмал и пликоге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659640" y="981000"/>
            <a:ext cx="201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набжение организма углеводами должно быть регуляр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7"/>
          <a:stretch/>
        </p:blipFill>
        <p:spPr>
          <a:xfrm>
            <a:off x="6516720" y="4637160"/>
            <a:ext cx="2303280" cy="17272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1"/>
          <p:cNvSpPr txBox="1"/>
          <p:nvPr/>
        </p:nvSpPr>
        <p:spPr>
          <a:xfrm>
            <a:off x="1979640" y="476280"/>
            <a:ext cx="165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ЖИМ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780000" y="3760920"/>
            <a:ext cx="30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140360" y="4678200"/>
            <a:ext cx="2374920" cy="19908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2340000" y="5057640"/>
            <a:ext cx="2016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завтрак - 2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300720" y="4986360"/>
            <a:ext cx="2735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второй завтрак – 1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763640" y="5778360"/>
            <a:ext cx="3095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бед – 3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164360" y="5778360"/>
            <a:ext cx="2016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 ужин  – 2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016000" y="4282920"/>
            <a:ext cx="63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 процентах от  суточной калорийност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643280" y="40464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ЗРОСЛОВОГО ЧЕЛОВЕКА ОПТИМАЛ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7451640" y="1582560"/>
            <a:ext cx="1727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тервал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– 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а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859280" y="1557360"/>
            <a:ext cx="151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етырё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в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ё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щ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6516720" y="1484280"/>
            <a:ext cx="987480" cy="208764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67" name="WordArt 13"/>
          <p:cNvSpPr txBox="1"/>
          <p:nvPr/>
        </p:nvSpPr>
        <p:spPr>
          <a:xfrm>
            <a:off x="1835280" y="134136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ТАНИ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8" name="WordArt 14"/>
          <p:cNvSpPr txBox="1"/>
          <p:nvPr/>
        </p:nvSpPr>
        <p:spPr>
          <a:xfrm>
            <a:off x="1690560" y="2174760"/>
            <a:ext cx="23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ЛОВЕКА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5003640" y="692280"/>
            <a:ext cx="18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ТАНИ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726920" cy="14097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5076720" y="3357720"/>
            <a:ext cx="3743280" cy="289872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2025720" y="476280"/>
            <a:ext cx="2617560" cy="33843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73" name="Text Box 5"/>
          <p:cNvSpPr/>
          <p:nvPr/>
        </p:nvSpPr>
        <p:spPr>
          <a:xfrm>
            <a:off x="4859280" y="2060640"/>
            <a:ext cx="43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SzPct val="102950"/>
              <a:buBlip>
                <a:blip r:embed="rId4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ываются разновидности продуктов по их калорий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5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692360" y="3933720"/>
            <a:ext cx="309564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SzPct val="102950"/>
              <a:buBlip>
                <a:blip r:embed="rId6"/>
              </a:buBlip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дновременно употребление овощей и фруктов не смешивается, например, с мясными или рыбными блюдами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1979640" y="549360"/>
            <a:ext cx="66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ля людей умственного труда режим приёма пищи может быть несколько изменё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3203640" y="1874880"/>
            <a:ext cx="4176720" cy="33544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77" name="Text Box 3"/>
          <p:cNvSpPr/>
          <p:nvPr/>
        </p:nvSpPr>
        <p:spPr>
          <a:xfrm>
            <a:off x="2195640" y="5778360"/>
            <a:ext cx="6624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имер, без резкого выделения завтрака и обед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1"/>
          <p:cNvSpPr txBox="1"/>
          <p:nvPr/>
        </p:nvSpPr>
        <p:spPr>
          <a:xfrm>
            <a:off x="4716360" y="333360"/>
            <a:ext cx="100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870200" y="2657520"/>
            <a:ext cx="727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о процесс поступления в организм и усвоение им веществ, необходим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763640" y="401760"/>
            <a:ext cx="2232000" cy="18748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6732720" y="476280"/>
            <a:ext cx="2268360" cy="18082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4140360" y="4545000"/>
            <a:ext cx="2447640" cy="19083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156" name="WordArt 6"/>
          <p:cNvSpPr txBox="1"/>
          <p:nvPr/>
        </p:nvSpPr>
        <p:spPr>
          <a:xfrm>
            <a:off x="4211640" y="1989000"/>
            <a:ext cx="23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ТАНИЕ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4500720" y="112536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КОЕ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4"/>
          <a:stretch/>
        </p:blipFill>
        <p:spPr>
          <a:xfrm>
            <a:off x="1835280" y="3357720"/>
            <a:ext cx="1638000" cy="19443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159" name="Text Box 9"/>
          <p:cNvSpPr/>
          <p:nvPr/>
        </p:nvSpPr>
        <p:spPr>
          <a:xfrm>
            <a:off x="3348000" y="2997360"/>
            <a:ext cx="381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ля покрытия энергетических и пластических затрат, построения и возобновления тканей его тела и регуляции функ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5"/>
          <a:stretch/>
        </p:blipFill>
        <p:spPr>
          <a:xfrm>
            <a:off x="7093080" y="3357720"/>
            <a:ext cx="1800000" cy="18000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1"/>
          <p:cNvSpPr txBox="1"/>
          <p:nvPr/>
        </p:nvSpPr>
        <p:spPr>
          <a:xfrm>
            <a:off x="1619280" y="404640"/>
            <a:ext cx="475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НОВНЫЕ УСЛОВИ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9" name="WordArt 2"/>
          <p:cNvSpPr txBox="1"/>
          <p:nvPr/>
        </p:nvSpPr>
        <p:spPr>
          <a:xfrm>
            <a:off x="2050920" y="1052640"/>
            <a:ext cx="367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НОЦЕННОГ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5148360" y="3933720"/>
            <a:ext cx="331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здоровом питании должны присутствовать все без исключения элементы, которые и делают его полноценным, и в должных количествах, но без излишест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5602320" y="476280"/>
            <a:ext cx="3211560" cy="3313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2448000" cy="36720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83" name="WordArt 6"/>
          <p:cNvSpPr txBox="1"/>
          <p:nvPr/>
        </p:nvSpPr>
        <p:spPr>
          <a:xfrm>
            <a:off x="2771640" y="1700280"/>
            <a:ext cx="237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ТАНИ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1654200" y="333360"/>
            <a:ext cx="7489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ужно получать только необходимое количество пищ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6804000" y="1525680"/>
            <a:ext cx="2232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пище должно быть соблюдено равновесие между белками, жирами и углевод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7020000" y="3683160"/>
            <a:ext cx="1906560" cy="14745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87" name="Text Box 4"/>
          <p:cNvSpPr/>
          <p:nvPr/>
        </p:nvSpPr>
        <p:spPr>
          <a:xfrm>
            <a:off x="1692360" y="2349360"/>
            <a:ext cx="180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ледует пить необходимое количество жидкост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1079640" cy="105912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89" name="Picture 6" descr=""/>
          <p:cNvPicPr/>
          <p:nvPr/>
        </p:nvPicPr>
        <p:blipFill>
          <a:blip r:embed="rId3"/>
          <a:stretch/>
        </p:blipFill>
        <p:spPr>
          <a:xfrm>
            <a:off x="8028000" y="4762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4"/>
          <a:stretch/>
        </p:blipFill>
        <p:spPr>
          <a:xfrm>
            <a:off x="1835280" y="3832200"/>
            <a:ext cx="1331640" cy="132552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91" name="Picture 8" descr=""/>
          <p:cNvPicPr/>
          <p:nvPr/>
        </p:nvPicPr>
        <p:blipFill>
          <a:blip r:embed="rId5"/>
          <a:stretch/>
        </p:blipFill>
        <p:spPr>
          <a:xfrm>
            <a:off x="3851280" y="1125360"/>
            <a:ext cx="2736720" cy="41040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292" name="Text Box 9"/>
          <p:cNvSpPr/>
          <p:nvPr/>
        </p:nvSpPr>
        <p:spPr>
          <a:xfrm>
            <a:off x="1476360" y="5373720"/>
            <a:ext cx="7524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вощи должны входить в состав пищи вместе с теми частями, в которых содержатся минеральные соли и витами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кожура, отруби, семена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3851280" y="2565360"/>
            <a:ext cx="3024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цион долже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держать максиму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итаминов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неральных со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2239920" cy="295272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6873840" y="765000"/>
            <a:ext cx="2162160" cy="16732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96" name="Picture 4" descr=""/>
          <p:cNvPicPr/>
          <p:nvPr/>
        </p:nvPicPr>
        <p:blipFill>
          <a:blip r:embed="rId3"/>
          <a:stretch/>
        </p:blipFill>
        <p:spPr>
          <a:xfrm>
            <a:off x="1692360" y="765000"/>
            <a:ext cx="2232000" cy="17272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97" name="Picture 5" descr=""/>
          <p:cNvPicPr/>
          <p:nvPr/>
        </p:nvPicPr>
        <p:blipFill>
          <a:blip r:embed="rId4"/>
          <a:stretch/>
        </p:blipFill>
        <p:spPr>
          <a:xfrm>
            <a:off x="6856560" y="2924280"/>
            <a:ext cx="2179440" cy="28810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98" name="Picture 6" descr=""/>
          <p:cNvPicPr/>
          <p:nvPr/>
        </p:nvPicPr>
        <p:blipFill>
          <a:blip r:embed="rId5"/>
          <a:stretch/>
        </p:blipFill>
        <p:spPr>
          <a:xfrm>
            <a:off x="4105440" y="333360"/>
            <a:ext cx="2627280" cy="203364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299" name="Picture 7" descr=""/>
          <p:cNvPicPr/>
          <p:nvPr/>
        </p:nvPicPr>
        <p:blipFill>
          <a:blip r:embed="rId6"/>
          <a:stretch/>
        </p:blipFill>
        <p:spPr>
          <a:xfrm>
            <a:off x="4140360" y="4338720"/>
            <a:ext cx="2447640" cy="20430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3708360" y="765000"/>
            <a:ext cx="295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титель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дукты должны бы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ращены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лодородных почва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3622680" y="2925720"/>
            <a:ext cx="3181320" cy="32400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302" name="Text Box 3"/>
          <p:cNvSpPr/>
          <p:nvPr/>
        </p:nvSpPr>
        <p:spPr>
          <a:xfrm>
            <a:off x="1692360" y="2997360"/>
            <a:ext cx="1871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котор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т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менты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1836720" y="620640"/>
            <a:ext cx="1655640" cy="16192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304" name="Picture 5" descr=""/>
          <p:cNvPicPr/>
          <p:nvPr/>
        </p:nvPicPr>
        <p:blipFill>
          <a:blip r:embed="rId3"/>
          <a:stretch/>
        </p:blipFill>
        <p:spPr>
          <a:xfrm>
            <a:off x="6804000" y="692280"/>
            <a:ext cx="2160720" cy="15843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305" name="Text Box 6"/>
          <p:cNvSpPr/>
          <p:nvPr/>
        </p:nvSpPr>
        <p:spPr>
          <a:xfrm>
            <a:off x="6840360" y="2997360"/>
            <a:ext cx="24847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 не на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днённы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силен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ксплуатаци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14240"/>
                <a:tab algn="l" pos="1628640"/>
                <a:tab algn="l" pos="2543040"/>
                <a:tab algn="l" pos="3457440"/>
                <a:tab algn="l" pos="4371840"/>
                <a:tab algn="l" pos="5286240"/>
                <a:tab algn="l" pos="6200640"/>
                <a:tab algn="l" pos="7115040"/>
                <a:tab algn="l" pos="8029440"/>
                <a:tab algn="l" pos="8943840"/>
                <a:tab algn="l" pos="9858240"/>
                <a:tab algn="l" pos="1077264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чва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1"/>
          <p:cNvSpPr txBox="1"/>
          <p:nvPr/>
        </p:nvSpPr>
        <p:spPr>
          <a:xfrm>
            <a:off x="1979640" y="404640"/>
            <a:ext cx="655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УМНОЕ ОГРАНИЧЕНИЕ В ПИТАНИ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728720" y="3213000"/>
            <a:ext cx="2195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568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употребляйте жидкость после приёма пищ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7093080" y="3141720"/>
            <a:ext cx="18698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8568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граничивайте употребление жирной пищ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195640" y="5516640"/>
            <a:ext cx="619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568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употребляйте одновременно продукты, для переваривания которых требуются разные услов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012000" y="1413000"/>
            <a:ext cx="3024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8568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мните, что лишний объём пищи расщепляют микроорганизм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19280" y="1442880"/>
            <a:ext cx="33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568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ывайте биоритмологическую активность органов пищевар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7" descr=""/>
          <p:cNvPicPr/>
          <p:nvPr/>
        </p:nvPicPr>
        <p:blipFill>
          <a:blip r:embed="rId1"/>
          <a:stretch/>
        </p:blipFill>
        <p:spPr>
          <a:xfrm>
            <a:off x="4067280" y="2421000"/>
            <a:ext cx="2592360" cy="287964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1655640" cy="131112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314" name="WordArt 2"/>
          <p:cNvSpPr txBox="1"/>
          <p:nvPr/>
        </p:nvSpPr>
        <p:spPr>
          <a:xfrm>
            <a:off x="6191280" y="404640"/>
            <a:ext cx="2773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ключение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300720" y="1628640"/>
            <a:ext cx="2808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анализируем меню одного дня в школьной столово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6588000" y="2924280"/>
            <a:ext cx="2305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257040">
              <a:lnSpc>
                <a:spcPct val="150000"/>
              </a:lnSpc>
              <a:buSzPct val="102950"/>
              <a:buBlip>
                <a:blip r:embed="rId2"/>
              </a:buBlip>
              <a:tabLst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257040">
              <a:lnSpc>
                <a:spcPct val="150000"/>
              </a:lnSpc>
              <a:buSzPct val="102950"/>
              <a:buBlip>
                <a:blip r:embed="rId3"/>
              </a:buBlip>
              <a:tabLst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ай с сахар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257040">
              <a:lnSpc>
                <a:spcPct val="150000"/>
              </a:lnSpc>
              <a:buSzPct val="102950"/>
              <a:buBlip>
                <a:blip r:embed="rId4"/>
              </a:buBlip>
              <a:tabLst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леб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692360" y="4478400"/>
            <a:ext cx="74516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сутствие фруктов, овощей, так необходимых для ребёнка. Большая часть учащихся на переменах «перекусывают», т. е. употребляют бутерброды, булочки, печенье, которые  нарушают процессы пищеварительного тракта, нередко просто портят аппети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5"/>
          <a:stretch/>
        </p:blipFill>
        <p:spPr>
          <a:xfrm>
            <a:off x="4427640" y="1339920"/>
            <a:ext cx="1614240" cy="20890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319" name="Picture 7" descr=""/>
          <p:cNvPicPr/>
          <p:nvPr/>
        </p:nvPicPr>
        <p:blipFill>
          <a:blip r:embed="rId6"/>
          <a:stretch/>
        </p:blipFill>
        <p:spPr>
          <a:xfrm>
            <a:off x="1763640" y="476280"/>
            <a:ext cx="2808360" cy="20574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5616720" cy="45183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321" name="Text Box 2"/>
          <p:cNvSpPr/>
          <p:nvPr/>
        </p:nvSpPr>
        <p:spPr>
          <a:xfrm>
            <a:off x="3924360" y="404640"/>
            <a:ext cx="288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 ВЕ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1"/>
          <p:cNvSpPr txBox="1"/>
          <p:nvPr/>
        </p:nvSpPr>
        <p:spPr>
          <a:xfrm>
            <a:off x="5724360" y="476280"/>
            <a:ext cx="19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ИЛЬНОЕ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WordArt 2"/>
          <p:cNvSpPr txBox="1"/>
          <p:nvPr/>
        </p:nvSpPr>
        <p:spPr>
          <a:xfrm>
            <a:off x="4356000" y="1268280"/>
            <a:ext cx="464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ПОРЯЖЕНИЕ ПРОДУКТАМ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435640" y="6138720"/>
            <a:ext cx="3456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кадемик  Павлов И. П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321000" cy="36003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165" name="Text Box 5"/>
          <p:cNvSpPr/>
          <p:nvPr/>
        </p:nvSpPr>
        <p:spPr>
          <a:xfrm>
            <a:off x="2195640" y="3141720"/>
            <a:ext cx="252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Нормальная и полезная еда есть еда с аппетитом, еда с испытываемым наслаждением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2303640" cy="20466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763640" y="1125360"/>
            <a:ext cx="720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spcBef>
                <a:spcPts val="876"/>
              </a:spcBef>
              <a:buSzPct val="102950"/>
              <a:buBlip>
                <a:blip r:embed="rId1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рганизм животных и человека находится в тесной взаимосвязи с внешней средой и воздействует на центральную нервную систему челове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2411280" y="333360"/>
            <a:ext cx="576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П. ПАВЛОВ УКАЗЫВА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003640" y="3902040"/>
            <a:ext cx="4032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ща является внешней средой, которая переходит во внутреннюю и участвует во всех жизненных процессах организм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3"/>
          <a:stretch/>
        </p:blipFill>
        <p:spPr>
          <a:xfrm>
            <a:off x="2158920" y="2637000"/>
            <a:ext cx="2557440" cy="33130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171" name="Picture 5" descr=""/>
          <p:cNvPicPr/>
          <p:nvPr/>
        </p:nvPicPr>
        <p:blipFill>
          <a:blip r:embed="rId4"/>
          <a:stretch/>
        </p:blipFill>
        <p:spPr>
          <a:xfrm>
            <a:off x="5435640" y="2165400"/>
            <a:ext cx="3024000" cy="198432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6012000" y="1125360"/>
            <a:ext cx="2303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ля правильной организации питания человека необходимо знать значение пищевых веществ и как они влияют на человека в зависимости о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372360" y="476280"/>
            <a:ext cx="143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979640" y="4365720"/>
            <a:ext cx="388944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50000"/>
              </a:lnSpc>
              <a:spcBef>
                <a:spcPts val="876"/>
              </a:spcBef>
              <a:buSzPct val="102950"/>
              <a:buBlip>
                <a:blip r:embed="rId1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рас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фесс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лим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о-бытовых услов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5"/>
          <a:stretch/>
        </p:blipFill>
        <p:spPr>
          <a:xfrm>
            <a:off x="1908000" y="404640"/>
            <a:ext cx="3421080" cy="38163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176" name="Picture 5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3024000" cy="21780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95640" y="1552680"/>
            <a:ext cx="316836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spcBef>
                <a:spcPts val="876"/>
              </a:spcBef>
              <a:buSzPct val="102950"/>
              <a:buBlip>
                <a:blip r:embed="rId1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ниги о здоровом и правильном питан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935680" y="1197000"/>
            <a:ext cx="2523960" cy="35272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179" name="Text Box 3"/>
          <p:cNvSpPr/>
          <p:nvPr/>
        </p:nvSpPr>
        <p:spPr>
          <a:xfrm>
            <a:off x="2482920" y="279360"/>
            <a:ext cx="66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ЧШЕ И ПОЛНЕЕ ИСПОЛЬЗОВАТЬ ПРОДУКТЫ ПИТАНИЯ ПОМОГАЮТ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356000" y="5075280"/>
            <a:ext cx="44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270000"/>
                <a:tab algn="l" pos="1184400"/>
                <a:tab algn="l" pos="2098800"/>
                <a:tab algn="l" pos="3013200"/>
                <a:tab algn="l" pos="3927600"/>
                <a:tab algn="l" pos="4842000"/>
                <a:tab algn="l" pos="5756400"/>
                <a:tab algn="l" pos="6670800"/>
                <a:tab algn="l" pos="7585200"/>
                <a:tab algn="l" pos="8499600"/>
                <a:tab algn="l" pos="9414000"/>
                <a:tab algn="l" pos="1032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реждения здравоохранения, социальной сферы и общественного питания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1854360" y="2492280"/>
            <a:ext cx="2430360" cy="3816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"/>
          <p:cNvSpPr txBox="1"/>
          <p:nvPr/>
        </p:nvSpPr>
        <p:spPr>
          <a:xfrm>
            <a:off x="1763640" y="476280"/>
            <a:ext cx="712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НЦЕПЦИЯ  СБАЛАНСИРОВАННОГО  ПИТАНИ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979640" y="1341360"/>
            <a:ext cx="6696000" cy="1053000"/>
          </a:xfrm>
          <a:prstGeom prst="rect">
            <a:avLst/>
          </a:prstGeom>
          <a:noFill/>
          <a:ln w="76320">
            <a:solidFill>
              <a:srgbClr val="d5b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уществление нормальной жизнедеятельности организма человека заключается в необходимом количестве энергии и в определенных комплексах пищевых вещест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781440" y="3645000"/>
            <a:ext cx="3311640" cy="250344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1515960" cy="19443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pic>
        <p:nvPicPr>
          <p:cNvPr id="186" name="Picture 5" descr=""/>
          <p:cNvPicPr/>
          <p:nvPr/>
        </p:nvPicPr>
        <p:blipFill>
          <a:blip r:embed="rId3"/>
          <a:stretch/>
        </p:blipFill>
        <p:spPr>
          <a:xfrm>
            <a:off x="7380360" y="2997360"/>
            <a:ext cx="1288800" cy="187308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1"/>
          <p:cNvSpPr txBox="1"/>
          <p:nvPr/>
        </p:nvSpPr>
        <p:spPr>
          <a:xfrm>
            <a:off x="2771640" y="33336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ЛОРИЙНОСТЬ РАЦИОНА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690560" y="1844640"/>
            <a:ext cx="216072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жд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на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лжен  получ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лько энерг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течение дн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коль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трачивает е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1836720" cy="403236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  <p:sp>
        <p:nvSpPr>
          <p:cNvPr id="190" name="Text Box 4"/>
          <p:cNvSpPr/>
          <p:nvPr/>
        </p:nvSpPr>
        <p:spPr>
          <a:xfrm>
            <a:off x="6877080" y="1836720"/>
            <a:ext cx="194292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о  е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рганизм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лж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блюдать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ргетическо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вновес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835280" y="5483160"/>
            <a:ext cx="70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венство количества энергии, полученной в процессе питание, и количества энергии, затрачиваемой в течение дн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763640" y="13500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КТОРЫ, ВЛИЯЮЩИЕ НА КОЛИЧЕСТВО ЭНЕРГИИ, РАСХОДУЕМОЙ ОРГАНИЗМ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906560" y="2381400"/>
            <a:ext cx="2160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ивидуальные особенности организм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589800" y="2451240"/>
            <a:ext cx="2303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лиматические, географические услов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2081160" cy="4104000"/>
          </a:xfrm>
          <a:prstGeom prst="rect">
            <a:avLst/>
          </a:prstGeom>
          <a:ln w="76320">
            <a:solidFill>
              <a:srgbClr val="d5b781"/>
            </a:solidFill>
            <a:miter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0:51:52Z</dcterms:created>
  <dc:creator/>
  <dc:description/>
  <dc:language>en-US</dc:language>
  <cp:lastModifiedBy>user</cp:lastModifiedBy>
  <dcterms:modified xsi:type="dcterms:W3CDTF">2023-11-05T16:41:01Z</dcterms:modified>
  <cp:revision>196</cp:revision>
  <dc:subject/>
  <dc:title>Слайд 1</dc:title>
</cp:coreProperties>
</file>